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C9863-B43A-4846-9840-3EC5F0D5919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BFE25-B68E-4BE6-BA4C-143393FFEED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0198C-C90C-4C50-9624-7568278AD48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3F6FF-999F-4EF6-B014-AB3822B9A92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6B852-B47B-45DA-95BC-59B627F2F08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48D81-D6BE-4A77-AF94-6BF240FBE7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4CF91-3A43-475D-A6A5-6CE9B920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C2EF7-0ABE-467E-BCFC-842D7A1C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46F01-7868-4345-BA5E-1E67C767DA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DE45C-B145-48C8-B235-0EEBED8C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49A66-7590-462D-A394-090F6D88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63F30-3F8A-43E3-936B-A84B4392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ABEC9-2998-4C09-965F-24CB39E3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9211C-D472-4C91-B214-4BC4D748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60F1A-33C2-4E2E-A55A-CF659ABA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7007E-F4E6-43DB-862A-B0A27F22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4297B-D6ED-4D30-8F8B-FDE36EDE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2897EB-D0F2-4D59-BE72-7FE8324D51EF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6844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DINÁMICA DE LA ATMÓ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dinámica de la atmó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971640" y="1197000"/>
            <a:ext cx="792144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atmósfera se dan movimientos de convección muy similares a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que se observan en la geosfe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s movimientos de masas de aire son lo que denominamos vi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dinámica de la atmósf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2879640" y="2549520"/>
            <a:ext cx="3240000" cy="3749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684360" y="3284640"/>
            <a:ext cx="20872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Sol calient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superficie de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Tierra, y esta a su vez calienta el aire en contacto con ella. Este aire caliente, menos denso, ascien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 rot="2160000">
            <a:off x="2370240" y="5184720"/>
            <a:ext cx="1509480" cy="146160"/>
          </a:xfrm>
          <a:prstGeom prst="rightArrow">
            <a:avLst>
              <a:gd name="adj1" fmla="val 34648"/>
              <a:gd name="adj2" fmla="val 108392"/>
            </a:avLst>
          </a:prstGeom>
          <a:solidFill>
            <a:srgbClr val="c5000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6659640" y="2565360"/>
            <a:ext cx="248436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ascender, el aire caliente desplaza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aire frío de las capas altas, que al ser más denso, descien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 rot="9420000">
            <a:off x="5248440" y="3633840"/>
            <a:ext cx="1366560" cy="139680"/>
          </a:xfrm>
          <a:prstGeom prst="rightArrow">
            <a:avLst>
              <a:gd name="adj1" fmla="val 34648"/>
              <a:gd name="adj2" fmla="val 108977"/>
            </a:avLst>
          </a:prstGeom>
          <a:solidFill>
            <a:srgbClr val="0084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13 CuadroTexto"/>
          <p:cNvSpPr/>
          <p:nvPr/>
        </p:nvSpPr>
        <p:spPr>
          <a:xfrm>
            <a:off x="250920" y="3357720"/>
            <a:ext cx="360360" cy="36828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14 CuadroTexto"/>
          <p:cNvSpPr/>
          <p:nvPr/>
        </p:nvSpPr>
        <p:spPr>
          <a:xfrm>
            <a:off x="6300720" y="2637000"/>
            <a:ext cx="358920" cy="36828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1T09:18:12Z</dcterms:modified>
  <cp:revision>46</cp:revision>
  <dc:subject/>
  <dc:title>Diapositiva 1</dc:title>
</cp:coreProperties>
</file>